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A59-5BFD-418D-8AEF-B928985A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60A-4DB9-4C06-9AA2-11F7E2F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A6F-75B1-4955-BBA0-91B3F06D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B21-E35D-41D9-9553-4EE62F17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F19-3435-47B8-9CC7-D225F3C0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B34-0F2B-4555-869D-5F2D930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122-F31B-49CB-87C4-98133008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3B6-668C-40A0-AAE1-FBA68133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FBE-C1E3-422B-AE18-0BDB49D6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780-C11F-466D-9C5E-534850F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7BA-C47E-4AD1-A7B1-554E40B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A26-333A-4F8C-AB01-9D99F540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660720"/>
            <a:ext cx="304200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C510E-8C34-4999-BAAC-135553730F2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657600"/>
            <a:ext cx="9601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-1440" y="3960"/>
            <a:ext cx="32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9280080" y="216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798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804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nsmith</cp:lastModifiedBy>
  <dcterms:modified xsi:type="dcterms:W3CDTF">2010-05-07T14:39:27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